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6458-16F1-4751-BD3F-49CA93129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FA92-6EE3-4B73-BDEE-ACE59D240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264E-7FAC-402E-A6A3-6A3E99EF0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070B-479B-4C0E-8A26-DD47C1A5D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F643-4462-4D3C-B8D4-B23138A70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C4E5-CE0A-43EF-9BB1-DF51B746D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394E-F2F1-45D4-9A20-63FC62B27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91AC-2AAE-4016-AA38-DB80B1B02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6CEC-E52E-48F3-819E-5D59139CA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9C9A-71ED-4CFD-AD0E-22914AC6E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6CAA-D0D9-4D7C-B483-B16BF3C40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0243-838F-4A86-85A7-425F8EC4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86079-C0C9-46EC-B13A-88225BD6D8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0880" y="-76320"/>
            <a:ext cx="8458200" cy="702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6T18:41:46Z</dcterms:created>
  <dc:creator>OCDSB User</dc:creator>
  <dc:description/>
  <dc:language>en-US</dc:language>
  <cp:lastModifiedBy>OCDSB User</cp:lastModifiedBy>
  <dcterms:modified xsi:type="dcterms:W3CDTF">2012-04-26T18:42:10Z</dcterms:modified>
  <cp:revision>1</cp:revision>
  <dc:subject/>
  <dc:title>Slide 1</dc:title>
</cp:coreProperties>
</file>